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DCC0-3D78-4E4A-95A0-BAC070C94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503D-C124-4852-B802-92EC55DB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A3F7-1333-46E2-A977-19BA3C5C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F9D2-C741-42EA-8E84-F17DFDA25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AD4F-C31B-45B5-A5B5-5693ED3D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16F5-C2AE-4AD3-8D4D-A47B1F5E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5476-3B2C-4ED3-BF71-BC7A566A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D58A-2C85-483B-A0C9-9E15C179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809B-5D44-4B62-BE0A-3983E3CC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7AFC-BD39-43E4-955E-D5081DF0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E707-70B9-490B-AF95-973A2C8A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684C-4B4C-4EAD-8498-20F612AB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75F8-FE6C-423D-9302-5C5BBA5B119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Jetzt mitStiften + mitGewinne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Mit der Förderkampagne mitStiften + mitGewinnen bietet der Verein Aktive Bürgerschaft mit Sitz in Berlin unseren Stiftern und Spendern einen besonderen Anreiz, sich für die [Name der Bürgerstiftung] zu engagieren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www.aktive-buergerschaft.de/fp_files/logo_mitStiften_mitGewinnen_web.jpg"/>
          <p:cNvPicPr/>
          <p:nvPr/>
        </p:nvPicPr>
        <p:blipFill>
          <a:blip r:embed="rId1"/>
          <a:stretch/>
        </p:blipFill>
        <p:spPr>
          <a:xfrm>
            <a:off x="1116000" y="692280"/>
            <a:ext cx="2592360" cy="1608120"/>
          </a:xfrm>
          <a:prstGeom prst="rect">
            <a:avLst/>
          </a:prstGeom>
          <a:ln w="0">
            <a:noFill/>
          </a:ln>
        </p:spPr>
      </p:pic>
      <p:sp>
        <p:nvSpPr>
          <p:cNvPr id="44" name="Textfeld 4"/>
          <p:cNvSpPr/>
          <p:nvPr/>
        </p:nvSpPr>
        <p:spPr>
          <a:xfrm>
            <a:off x="5508720" y="105264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[Hier Logo der Bürgerstiftung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mitStiften + mitGewin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tiften oder spenden Sie vom 1. Juni bis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1. Oktober 2013 mindestens 200 Euro an die [Name der Bürgerstiftung]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Gewinnen Sie einen von zehn originellen Preisen rund ums Engag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Hauptpre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Ein </a:t>
            </a:r>
            <a:r>
              <a:rPr b="1" lang="de-DE" sz="3000" spc="-1" strike="noStrike">
                <a:solidFill>
                  <a:srgbClr val="000000"/>
                </a:solidFill>
                <a:latin typeface="Calibri"/>
              </a:rPr>
              <a:t>Besuch für zwei Personen mit Stadttour durch das bürgeraktive Berlin 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und Begegnung mit engagierten Bürgerinnen und Bürgern. Inklusive Anreise, zwei Übernachtungen im Fünf-Sterne-Hotel und Menü im Sternerestaura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996840" y="1484280"/>
            <a:ext cx="3070440" cy="4479840"/>
          </a:xfrm>
          <a:prstGeom prst="rect">
            <a:avLst/>
          </a:prstGeom>
          <a:ln w="0">
            <a:noFill/>
          </a:ln>
        </p:spPr>
      </p:pic>
      <p:sp>
        <p:nvSpPr>
          <p:cNvPr id="50" name="Textfeld 1"/>
          <p:cNvSpPr/>
          <p:nvPr/>
        </p:nvSpPr>
        <p:spPr>
          <a:xfrm>
            <a:off x="925560" y="5950080"/>
            <a:ext cx="3070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Tour durch das bürgeraktive Berli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Foto: Kai Biener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Hauptpre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Wie funktionieren Finanzmärkte? Uwe Fröhlich, Präsident des Bundesverbandes der Deutschen Volksbanken und Raiffeisenbanken (BVR), unterrichtet im Namen des Gewinners an einer </a:t>
            </a:r>
            <a:r>
              <a:rPr b="1" lang="de-DE" sz="3000" spc="-1" strike="noStrike">
                <a:solidFill>
                  <a:srgbClr val="000000"/>
                </a:solidFill>
                <a:latin typeface="Calibri"/>
              </a:rPr>
              <a:t>Schule in [Name der Stadt oder Region]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 und diskutiert mit Schülerinnen und Schüler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Wie arbeitet eine Zeitung? Ein </a:t>
            </a:r>
            <a:r>
              <a:rPr b="1" lang="de-DE" sz="3000" spc="-1" strike="noStrike">
                <a:solidFill>
                  <a:srgbClr val="000000"/>
                </a:solidFill>
                <a:latin typeface="Calibri"/>
              </a:rPr>
              <a:t>Besuch bei der Süddeutschen Zeitung 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in München mit Führung und persönlichem Gespräch mit Prof. Dr. Heribert Prantl, Mitglied der Chefredaktion. Inklusive Anreise mit der Bah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eitere Pre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3 x </a:t>
            </a:r>
            <a:r>
              <a:rPr b="1" lang="de-DE" sz="3000" spc="-1" strike="noStrike">
                <a:solidFill>
                  <a:srgbClr val="000000"/>
                </a:solidFill>
                <a:latin typeface="Calibri"/>
              </a:rPr>
              <a:t>1.000 Euro für eine gemeinnützige Organisation 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in [Name der Stadt oder Region] nach Wahl des Gewinn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Vier </a:t>
            </a:r>
            <a:r>
              <a:rPr b="1" lang="de-DE" sz="3000" spc="-1" strike="noStrike">
                <a:solidFill>
                  <a:srgbClr val="000000"/>
                </a:solidFill>
                <a:latin typeface="Calibri"/>
              </a:rPr>
              <a:t>handsignierte Buchprei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Prof. Dr. Paul Nolte: Was ist Demokratie? Geschichte und Gegenw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Richard David Precht: Die Kunst, kein Egoist zu se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Helmut Schmidt: Außer Dien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Prof. Dr. Annette Zimmer: Bürgerschaftliches Engagement unter Druc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Jetzt teilnehme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Zustiftung oder Spende direkt an die Bürgerstiftung überwei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Teilnahmekarte ausfüllen und Geldeingang von der Bürgerstiftung bestätigen las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Informationen und Teilnahmebedingungen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ww.aktive-buergerschaft.de/mitgewin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und unter [Internetseite Bürgerstiftung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6T11:29:02Z</dcterms:created>
  <dc:creator>Bodo Wannow</dc:creator>
  <dc:description/>
  <dc:language>en-US</dc:language>
  <cp:lastModifiedBy>Carola</cp:lastModifiedBy>
  <dcterms:modified xsi:type="dcterms:W3CDTF">2013-05-08T09:54:08Z</dcterms:modified>
  <cp:revision>15</cp:revision>
  <dc:subject/>
  <dc:title>Jetzt mitStiften + mitGewinnen</dc:title>
</cp:coreProperties>
</file>