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F77-96BC-4123-86DF-D63BB387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14F-6692-4C94-A4C9-FF26873E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E15-A831-431C-943E-BE114086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61F-7E50-4844-87BF-9B4FC9B1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841-B72E-4745-9E89-D2F563C9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2CA-CC2D-4FB8-BBA3-ACAFEEFD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DAA-9EA8-465C-B1CD-1CAB1490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22D-B3C6-41F5-B960-B18EF4C3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E2F-5B89-4A15-AE75-64F9DFB1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3C5-8415-4D56-8DF1-20788795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D99-E321-4FD4-8554-1792956F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AEC-9C91-4764-9C75-B22D7F3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B747-8EDF-4C43-BBA6-52E7757678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Jetzt mitStiften + mitGewinn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98989"/>
                </a:solidFill>
                <a:latin typeface="Calibri"/>
              </a:rPr>
              <a:t>[Mitarbeiter/Mitglieder/Kunden] der [Name der Organisation] können jetzt etwas für die [Name der Bürgerstiftung] tun und sich so für die [„Stadt, Gemeinde oder Region“] engagieren – und mit ein wenig Glück auch selbst etwas zurück bekommen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98989"/>
                </a:solidFill>
                <a:latin typeface="Calibri"/>
              </a:rPr>
              <a:t>Mit der Förderkampagne mitStiften + mitGewinnen bietet der Verein Aktive Bürgerschaft mit Sitz in Berlin einen besonderen Anreiz, für die [Name der Bürgerstiftung] zu stiften oder zu spenden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aktive-buergerschaft.de/fp_files/logo_mitStiften_mitGewinnen_web.jpg"/>
          <p:cNvPicPr/>
          <p:nvPr/>
        </p:nvPicPr>
        <p:blipFill>
          <a:blip r:embed="rId1"/>
          <a:stretch/>
        </p:blipFill>
        <p:spPr>
          <a:xfrm>
            <a:off x="1116000" y="692280"/>
            <a:ext cx="2592360" cy="16081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4"/>
          <p:cNvSpPr/>
          <p:nvPr/>
        </p:nvSpPr>
        <p:spPr>
          <a:xfrm>
            <a:off x="5508720" y="1052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[Hier Logo der Bürgerstiftung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[Name der Bürgerstiftung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[Hier die Bürgerstiftung vorstellen, zum Beispiel mit Gründungsjahr, aktuellen Schwerpunkten oder „Meilensteinen“.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itStiften + mitGewin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r vom 1. Juni bis 1. Oktober 2013 mindestens 200 Euro an die [Name der Bürgerstiftung] zustiftet oder spendet, kann einen von zehn originellen Preisen rund ums Engagement  gewinnen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aupt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Ein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Besuch für zwei Personen mit Stadttour durch das bürgeraktive Berlin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und Begegnung mit engagierten Bürgerinnen und Bürgern. Inklusive Anreise, zwei Übernachtungen im Fünf-Sterne-Hotel und Menü im Sternerestaur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96840" y="1484280"/>
            <a:ext cx="3070440" cy="4479840"/>
          </a:xfrm>
          <a:prstGeom prst="rect">
            <a:avLst/>
          </a:prstGeom>
          <a:ln w="0">
            <a:noFill/>
          </a:ln>
        </p:spPr>
      </p:pic>
      <p:sp>
        <p:nvSpPr>
          <p:cNvPr id="52" name="Textfeld 1"/>
          <p:cNvSpPr/>
          <p:nvPr/>
        </p:nvSpPr>
        <p:spPr>
          <a:xfrm>
            <a:off x="925560" y="5950080"/>
            <a:ext cx="307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Tour durch das bürgeraktive Berl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Foto: Kai Biener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aupt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funktionieren Finanzmärkte? Uwe Fröhlich, Präsident des Bundesverbandes der Deutschen Volksbanken und Raiffeisenbanken (BVR), unterrichtet im Namen des Gewinners an einer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Schule  in [Name der Stadt oder Region]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und diskutiert mit Schülerinnen und Schüler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arbeitet eine Zeitung? Ein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Besuch bei der Süddeutschen Zeitung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in München mit Führung und persönlichem Gespräch mit Prof. Dr. Heribert Prantl, Mitglied der Chefredaktion. Inklusive Anreise mit der Bah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itere 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3 x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1.000 Euro für eine gemeinnützige Organisation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n [Name der Stadt oder Region] nach Wahl des Gewin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Vier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handsignierte Buchpre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f. Dr. Paul Nolte: Was ist Demokratie? Geschichte und Gegenw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Richard David Precht: Die Kunst, kein Egoist zu se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Helmut Schmidt: Außer Dien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f. Dr. Annette Zimmer: Bürgerschaftliches Engagement unter Dru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Jetzt teilnehm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ustiftung oder Spende direkt an die Bürgerstiftung überwei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eilnahmekarte ausfüllen und Geldeingang von der Bürgerstiftung bestätigen la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formationen und Teilnahmebedingunge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ww.aktive-buergerschaft.de/mitgewin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d unter [Internetseite Bürgerstiftung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e Sie uns unterstützen kön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[Hier recherchieren und Möglichkeiten auswählen, z.B.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ldung auf Firmenhomepage und im Intr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-Mail-Newsl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irmen-/Mitgliederzeitschr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m Schwarzen Br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triebsfeier, Sommerfest, Jubilä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1:29:02Z</dcterms:created>
  <dc:creator>Bodo Wannow</dc:creator>
  <dc:description/>
  <dc:language>en-US</dc:language>
  <cp:lastModifiedBy>Carola</cp:lastModifiedBy>
  <dcterms:modified xsi:type="dcterms:W3CDTF">2013-05-08T09:54:34Z</dcterms:modified>
  <cp:revision>23</cp:revision>
  <dc:subject/>
  <dc:title>Jetzt mitStiften + mitGewinnen</dc:title>
</cp:coreProperties>
</file>